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5.jpeg" ContentType="image/jpeg"/>
  <Override PartName="/ppt/media/image32.png" ContentType="image/png"/>
  <Override PartName="/ppt/media/image24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9.jpeg" ContentType="image/jpeg"/>
  <Override PartName="/ppt/media/image28.png" ContentType="image/png"/>
  <Override PartName="/ppt/media/image5.png" ContentType="image/png"/>
  <Override PartName="/ppt/media/image43.jpeg" ContentType="image/jpeg"/>
  <Override PartName="/ppt/media/image9.png" ContentType="image/png"/>
  <Override PartName="/ppt/media/image44.jpeg" ContentType="image/jpeg"/>
  <Override PartName="/ppt/media/image40.jpeg" ContentType="image/jpeg"/>
  <Override PartName="/ppt/media/image30.jpeg" ContentType="image/jpeg"/>
  <Override PartName="/ppt/media/image35.wmf" ContentType="image/x-wmf"/>
  <Override PartName="/ppt/media/image31.png" ContentType="image/png"/>
  <Override PartName="/ppt/media/image6.png" ContentType="image/png"/>
  <Override PartName="/ppt/media/image37.jpeg" ContentType="image/jpeg"/>
  <Override PartName="/ppt/media/image13.png" ContentType="image/png"/>
  <Override PartName="/ppt/media/image38.wmf" ContentType="image/x-wmf"/>
  <Override PartName="/ppt/media/image39.wmf" ContentType="image/x-wmf"/>
  <Override PartName="/ppt/media/image41.jpeg" ContentType="image/jpeg"/>
  <Override PartName="/ppt/media/image45.jpeg" ContentType="image/jpeg"/>
  <Override PartName="/ppt/media/image42.jpeg" ContentType="image/jpeg"/>
  <Override PartName="/ppt/media/image46.png" ContentType="image/png"/>
  <Override PartName="/ppt/media/image11.png" ContentType="image/png"/>
  <Override PartName="/ppt/media/image8.png" ContentType="image/png"/>
  <Override PartName="/ppt/media/image12.png" ContentType="image/png"/>
  <Override PartName="/ppt/media/image34.jpeg" ContentType="image/jpeg"/>
  <Override PartName="/ppt/media/image7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6.jpeg" ContentType="image/jpeg"/>
  <Override PartName="/ppt/media/image2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A589-2531-4A6E-95C0-2E2AB1373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CD6C-F0CE-4428-ACFA-5519278A4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E070-95C3-4573-93C4-1A55C1A2D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305B-2B4E-4A8F-B7DD-98CBF3C15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2FA41-D41C-4C0D-91A8-1229B16B6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0982B-EC86-470D-BDC3-AC0C66D88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892AD-9E85-47AD-BF0A-382AEA9AC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DD452-EA5E-4E31-A61E-0BE468197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80A00-6E6A-44A2-A2C7-7146CBEE7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768BA-9651-4972-B483-B9F1AA32A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3F137-B4B1-4D90-9EEB-EAD87E23A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728C-E845-4DA2-AD11-804ACEC4A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469AA-92A1-400B-A1EB-9A27B07F0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B1BAD-97EE-438C-94AF-D5C9BD622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7CFE1-37D6-4C1C-8682-D0E734370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CFD5A-AF45-4674-9C2E-E65219C27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0EA36-A107-4D5A-B01E-5005B0AF3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96FB81-8F67-4C08-B5D4-AFA789386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663534-CE0B-4F75-A0F9-38E2B4DF7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A198B8-054B-4E4C-A90E-11B69D417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5614B6-6C58-4CE1-A13C-1F4DE7049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8CA330-B842-4D9E-BF01-250A060EC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5D8E-2B1B-4C8F-A429-C48DE2182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36FB0C-BA00-4979-8529-BC0B0B7C5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A2F95E-8CD3-4AB3-8C91-73DFCD9A1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FEB046-0650-4B9E-90A7-6409C757F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7E0DE1-E985-48BD-967F-AF004B95C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66C407-95CF-47E9-9B67-11A7049CF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1C95F4-2B08-42E9-86A3-D58CEB2EF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4AAE53-0279-4782-B24D-6165B89BC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EA6969-CF75-4A3D-823F-7CF6E611B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E7CC1B-6809-4AF6-9969-D263F3FD9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25CA4C-41DF-4AB0-8683-9E79BA01D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3531-9219-4136-9165-B71451CF9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E89FB2-6AB0-4A5F-AE78-748D821E8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B2994B-E3E3-4D41-8C2D-99153007D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E8EE89-082C-45C3-A42F-A39F938E7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FBCE86-8FB7-4ADC-9051-16C251ECF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E8F4CA-206E-4403-907D-884056950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B4BD89-EF73-4FD8-B527-E430075EF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5995E6-F4AD-4DBA-850D-B8C7CD4F5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D66001-3628-4B57-B80E-A33021D49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F0CB26-B0C4-43FD-B38B-16C5CE1A5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4C5EAF-4097-4061-B636-93061FB9F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3247-6C52-40B0-973C-0FF6B50D2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B30F0A-0183-4C02-B6B2-B9FD88FB0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2DAB83-1898-4B95-B2EF-C8F9A987A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D1E5F7-D43D-46A4-B5C0-728BD5DD8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F9BB42-294F-43AB-A195-2111EE942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56C075-970D-47A6-A835-7FEC32ABC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7A7547-15AA-4B7B-8CA5-CE33C9572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1FC759-692D-4D60-9EBA-F7909C03B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1C72DF-3ACE-4D1C-973D-7B224E41D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3C0F97-AEC9-4B32-A897-433653415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DDD52A-DC6F-4135-B36C-A8B5DBF83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C0D9-4659-45E5-A5B5-A22E9B4E0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D03048-0F2E-46F9-B9B8-37C039341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E4B204-AF71-489D-82B6-7053EAD98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201E0C-B392-413F-B699-BCAF2BA91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3EAE94-1A16-4550-A65B-E7CB27456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F9C9E7-BC8B-4B7C-A07A-35551279E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5445E7-24E3-4B63-817B-350E8ECDA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9F3ADE-0341-4340-878B-908EE739F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6D45D2-74BF-4485-8F3F-AEE68FAB1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AA16A5-3651-4832-A21E-A64F869CF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C235E5-EDDD-459F-9385-01EC0E69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A38D-DA01-403D-904C-39DC4D6E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EEED66-6BF3-4EBB-BBD8-6A58AB2D9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3A998A-38F7-4C22-9F11-52E827107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9AAAAD-72C4-44EC-9E33-8C17CE3AE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731A55-69AE-45F3-8F20-6CA35D98A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00D37A-BC99-44C4-BE7D-88F9556AA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07B40A-9549-468B-8C43-984171360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9CE37F-5288-451D-8DC0-5DBD9B54E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69350E-2A11-402A-A319-B85188ACB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75D2C7-C8D8-40DA-BE85-9AC802D2F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2A1A4F-3C9C-4727-8B00-0A9738CD7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7ACD-C014-4C08-BE51-D7A583E23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3A1469-1784-40A1-AC8A-422843306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3F20BB-CCC4-4A33-93EB-1E35BA518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CF9CD6-B68F-419A-BB22-C093DC095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BC26C5-7EEB-4937-A433-09B9B0C81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25C7DE-B6D5-44D1-936A-AC48F6B24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38FE0D-24D0-4061-9707-A4090C8D0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785318-456B-445C-A373-90ACAA90D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D4D95E-398D-43C3-8064-850AE5DEB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C39E5B-C52D-434B-AA00-302181A19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EB053F-325D-43A5-8BA2-8A09A6C97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484B-4FC1-48E9-9DA3-88348AABC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70B01E-6A48-4C52-AB02-AF22129BB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5F7B28-3B16-4F5E-8CAA-BF2656179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FDB517-873F-4E69-B076-4C7108F32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F24ACF-62C4-45CF-8579-872057527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C92B5E-7EEB-4AC3-AA31-E2EA80803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0AB2EF-DE46-47C1-9792-40EBC4B6D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F6BA0F-6D6A-4EC0-9D38-1EB2A460F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rostokąt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rostokąt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rostokąt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533D8-F6C5-4335-9734-AD0B07203A0E}" type="slidenum">
              <a:rPr b="1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rostokąt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Prostokąt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Prostokąt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99821-3AC7-4EAC-B3C5-52BDAAC47EE9}" type="slidenum">
              <a:rPr b="1" lang="pl-PL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rostokąt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rostokąt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Prostokąt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7C7B2-E40F-468E-8294-E352DBE53436}" type="slidenum"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rostokąt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Prostokąt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rostokąt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791E4-D5D5-416B-B70B-5F0B2444AFBB}" type="slidenum">
              <a:rPr b="1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rostokąt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Prostokąt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Prostokąt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6ABBE-A4FB-4593-8D54-E91351191E0F}" type="slidenum">
              <a:rPr b="1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42DFF-E6B7-4DEC-A3E3-A43B219D2F8C}" type="slidenum">
              <a:rPr b="1" lang="pl-PL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rostokąt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rostokąt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Prostokąt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4" name="Prostokąt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4D594-BAF9-45B4-94DC-C836A524B8BF}" type="slidenum"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rostokąt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Prostokąt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Prostokąt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9B0C5-853D-4DAB-B0C4-6544A1F0DAAD}" type="slidenum">
              <a:rPr b="1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discoveringegypt.com/hieroglyphic-typewriter.html" TargetMode="External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d3ed"/>
            </a:gs>
            <a:gs pos="100000">
              <a:srgbClr val="e9f0f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268360" y="4005360"/>
            <a:ext cx="64771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0" spc="-1" strike="noStrike">
                <a:solidFill>
                  <a:srgbClr val="0070c0"/>
                </a:solidFill>
                <a:latin typeface="Tw Cen MT"/>
              </a:rPr>
              <a:t>LICZBY I CYFRY</a:t>
            </a:r>
            <a:endParaRPr b="0" lang="en-US" sz="80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Tw Cen MT"/>
              </a:rPr>
              <a:t>Różne sposoby zapisywania liczb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52" name="Prostokąt 4" descr=""/>
          <p:cNvPicPr/>
          <p:nvPr/>
        </p:nvPicPr>
        <p:blipFill>
          <a:blip r:embed="rId1"/>
          <a:stretch/>
        </p:blipFill>
        <p:spPr>
          <a:xfrm>
            <a:off x="158760" y="2328840"/>
            <a:ext cx="8955000" cy="1523880"/>
          </a:xfrm>
          <a:prstGeom prst="rect">
            <a:avLst/>
          </a:prstGeom>
          <a:ln w="0">
            <a:noFill/>
          </a:ln>
        </p:spPr>
      </p:pic>
      <p:grpSp>
        <p:nvGrpSpPr>
          <p:cNvPr id="353" name="Grupa 6"/>
          <p:cNvGrpSpPr/>
          <p:nvPr/>
        </p:nvGrpSpPr>
        <p:grpSpPr>
          <a:xfrm>
            <a:off x="324000" y="630360"/>
            <a:ext cx="8578800" cy="1170000"/>
            <a:chOff x="324000" y="630360"/>
            <a:chExt cx="8578800" cy="1170000"/>
          </a:xfrm>
        </p:grpSpPr>
        <p:pic>
          <p:nvPicPr>
            <p:cNvPr id="354" name="Obraz 7" descr=""/>
            <p:cNvPicPr/>
            <p:nvPr/>
          </p:nvPicPr>
          <p:blipFill>
            <a:blip r:embed="rId2"/>
            <a:stretch/>
          </p:blipFill>
          <p:spPr>
            <a:xfrm>
              <a:off x="324000" y="797760"/>
              <a:ext cx="1041120" cy="100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5" name="Grupa 8"/>
            <p:cNvGrpSpPr/>
            <p:nvPr/>
          </p:nvGrpSpPr>
          <p:grpSpPr>
            <a:xfrm>
              <a:off x="1370520" y="851760"/>
              <a:ext cx="678960" cy="829080"/>
              <a:chOff x="1370520" y="851760"/>
              <a:chExt cx="678960" cy="829080"/>
            </a:xfrm>
          </p:grpSpPr>
          <p:pic>
            <p:nvPicPr>
              <p:cNvPr id="356" name="Obraz 17" descr=""/>
              <p:cNvPicPr/>
              <p:nvPr/>
            </p:nvPicPr>
            <p:blipFill>
              <a:blip r:embed="rId3"/>
              <a:srcRect l="13908" t="0" r="16795" b="0"/>
              <a:stretch/>
            </p:blipFill>
            <p:spPr>
              <a:xfrm>
                <a:off x="1370520" y="851760"/>
                <a:ext cx="678960" cy="82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7" name="Elipsa 18"/>
              <p:cNvSpPr/>
              <p:nvPr/>
            </p:nvSpPr>
            <p:spPr>
              <a:xfrm>
                <a:off x="1644840" y="913320"/>
                <a:ext cx="42840" cy="33840"/>
              </a:xfrm>
              <a:prstGeom prst="ellipse">
                <a:avLst/>
              </a:prstGeom>
              <a:solidFill>
                <a:srgbClr val="94b6d2"/>
              </a:solidFill>
              <a:ln w="19080">
                <a:solidFill>
                  <a:srgbClr val="6b859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358" name="Elipsa 19"/>
              <p:cNvSpPr/>
              <p:nvPr/>
            </p:nvSpPr>
            <p:spPr>
              <a:xfrm>
                <a:off x="1754640" y="977040"/>
                <a:ext cx="42840" cy="33840"/>
              </a:xfrm>
              <a:prstGeom prst="ellipse">
                <a:avLst/>
              </a:prstGeom>
              <a:solidFill>
                <a:srgbClr val="94b6d2"/>
              </a:solidFill>
              <a:ln w="19080">
                <a:solidFill>
                  <a:srgbClr val="6b859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</p:grpSp>
        <p:pic>
          <p:nvPicPr>
            <p:cNvPr id="359" name="Obraz 9" descr=""/>
            <p:cNvPicPr/>
            <p:nvPr/>
          </p:nvPicPr>
          <p:blipFill>
            <a:blip r:embed="rId4"/>
            <a:stretch/>
          </p:blipFill>
          <p:spPr>
            <a:xfrm>
              <a:off x="2108880" y="703080"/>
              <a:ext cx="714960" cy="64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0" name="Obraz 10" descr=""/>
            <p:cNvPicPr/>
            <p:nvPr/>
          </p:nvPicPr>
          <p:blipFill>
            <a:blip r:embed="rId5"/>
            <a:stretch/>
          </p:blipFill>
          <p:spPr>
            <a:xfrm>
              <a:off x="7099200" y="735480"/>
              <a:ext cx="1063440" cy="90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1" name="Obraz 11" descr=""/>
            <p:cNvPicPr/>
            <p:nvPr/>
          </p:nvPicPr>
          <p:blipFill>
            <a:blip r:embed="rId6"/>
            <a:stretch/>
          </p:blipFill>
          <p:spPr>
            <a:xfrm>
              <a:off x="4591800" y="964080"/>
              <a:ext cx="903960" cy="76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Obraz 12" descr=""/>
            <p:cNvPicPr/>
            <p:nvPr/>
          </p:nvPicPr>
          <p:blipFill>
            <a:blip r:embed="rId7"/>
            <a:stretch/>
          </p:blipFill>
          <p:spPr>
            <a:xfrm>
              <a:off x="3715200" y="703080"/>
              <a:ext cx="975600" cy="82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Obraz 13" descr=""/>
            <p:cNvPicPr/>
            <p:nvPr/>
          </p:nvPicPr>
          <p:blipFill>
            <a:blip r:embed="rId8"/>
            <a:stretch/>
          </p:blipFill>
          <p:spPr>
            <a:xfrm>
              <a:off x="7832880" y="797760"/>
              <a:ext cx="1069920" cy="90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Obraz 14" descr=""/>
            <p:cNvPicPr/>
            <p:nvPr/>
          </p:nvPicPr>
          <p:blipFill>
            <a:blip r:embed="rId9"/>
            <a:stretch/>
          </p:blipFill>
          <p:spPr>
            <a:xfrm>
              <a:off x="6127200" y="757080"/>
              <a:ext cx="1187640" cy="100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5" name="Obraz 15" descr=""/>
            <p:cNvPicPr/>
            <p:nvPr/>
          </p:nvPicPr>
          <p:blipFill>
            <a:blip r:embed="rId10"/>
            <a:stretch/>
          </p:blipFill>
          <p:spPr>
            <a:xfrm>
              <a:off x="5235840" y="630360"/>
              <a:ext cx="1187640" cy="100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6" name="Obraz 16" descr=""/>
            <p:cNvPicPr/>
            <p:nvPr/>
          </p:nvPicPr>
          <p:blipFill>
            <a:blip r:embed="rId11"/>
            <a:stretch/>
          </p:blipFill>
          <p:spPr>
            <a:xfrm>
              <a:off x="2729880" y="736920"/>
              <a:ext cx="1206720" cy="1020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250"/>
                            </p:stCondLst>
                            <p:childTnLst>
                              <p:par>
                                <p:cTn id="9" nodeType="afterEffect" fill="hold" presetClass="entr" presetID="2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59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8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81">
                                          <p:stCondLst>
                                            <p:cond delay="581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90">
                                          <p:stCondLst>
                                            <p:cond delay="115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44">
                                          <p:stCondLst>
                                            <p:cond delay="144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" dur="23" fill="hold">
                                          <p:stCondLst>
                                            <p:cond delay="56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" dur="145" fill="hold">
                                          <p:stCondLst>
                                            <p:cond delay="592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3" fill="hold">
                                          <p:stCondLst>
                                            <p:cond delay="1148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" dur="145" fill="hold">
                                          <p:stCondLst>
                                            <p:cond delay="1171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" dur="23" fill="hold">
                                          <p:stCondLst>
                                            <p:cond delay="1437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" dur="145" fill="hold">
                                          <p:stCondLst>
                                            <p:cond delay="145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3" fill="hold">
                                          <p:stCondLst>
                                            <p:cond delay="1582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" dur="145" fill="hold">
                                          <p:stCondLst>
                                            <p:cond delay="1605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2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11280" y="586728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775f55"/>
                </a:solidFill>
                <a:latin typeface="Tw Cen MT"/>
              </a:rPr>
              <a:t>ceny różnych towarów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0" name="pole tekstowe 3"/>
          <p:cNvSpPr/>
          <p:nvPr/>
        </p:nvSpPr>
        <p:spPr>
          <a:xfrm>
            <a:off x="611280" y="62064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775f55"/>
                </a:solidFill>
                <a:latin typeface="Tw Cen MT"/>
              </a:rPr>
              <a:t>Za pomocą cyfr i liczb wyrażamy wiele informacji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21" name="Picture 4" descr="C:\Users\Ania\AppData\Local\Microsoft\Windows\Temporary Internet Files\Content.IE5\CXABBVED\MC900412326[1].wmf"/>
          <p:cNvPicPr/>
          <p:nvPr/>
        </p:nvPicPr>
        <p:blipFill>
          <a:blip r:embed="rId1"/>
          <a:stretch/>
        </p:blipFill>
        <p:spPr>
          <a:xfrm>
            <a:off x="635040" y="1916280"/>
            <a:ext cx="1920960" cy="1834920"/>
          </a:xfrm>
          <a:prstGeom prst="rect">
            <a:avLst/>
          </a:prstGeom>
          <a:ln w="0">
            <a:noFill/>
          </a:ln>
        </p:spPr>
      </p:pic>
      <p:sp>
        <p:nvSpPr>
          <p:cNvPr id="422" name="pole tekstowe 5"/>
          <p:cNvSpPr/>
          <p:nvPr/>
        </p:nvSpPr>
        <p:spPr>
          <a:xfrm>
            <a:off x="596520" y="3933720"/>
            <a:ext cx="14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w Cen MT"/>
              </a:rPr>
              <a:t>Mikser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w Cen MT"/>
              </a:rPr>
              <a:t>Cena 259 zł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23" name="Picture 5" descr="C:\Users\Ania\AppData\Local\Microsoft\Windows\Temporary Internet Files\Content.IE5\FZ4DAB55\MP900401195[1].jpg"/>
          <p:cNvPicPr/>
          <p:nvPr/>
        </p:nvPicPr>
        <p:blipFill>
          <a:blip r:embed="rId2"/>
          <a:stretch/>
        </p:blipFill>
        <p:spPr>
          <a:xfrm>
            <a:off x="5364000" y="2924280"/>
            <a:ext cx="1951200" cy="1562040"/>
          </a:xfrm>
          <a:prstGeom prst="rect">
            <a:avLst/>
          </a:prstGeom>
          <a:ln w="0">
            <a:noFill/>
          </a:ln>
        </p:spPr>
      </p:pic>
      <p:sp>
        <p:nvSpPr>
          <p:cNvPr id="424" name="pole tekstowe 10"/>
          <p:cNvSpPr/>
          <p:nvPr/>
        </p:nvSpPr>
        <p:spPr>
          <a:xfrm>
            <a:off x="7268400" y="2924280"/>
            <a:ext cx="192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w Cen MT"/>
              </a:rPr>
              <a:t>Kredki woskowe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w Cen MT"/>
              </a:rPr>
              <a:t>Cena 2zł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25" name="Picture 6" descr="C:\Users\Ania\AppData\Local\Microsoft\Windows\Temporary Internet Files\Content.IE5\AKSHKWQ7\MP900400573[1].jpg"/>
          <p:cNvPicPr/>
          <p:nvPr/>
        </p:nvPicPr>
        <p:blipFill>
          <a:blip r:embed="rId3"/>
          <a:stretch/>
        </p:blipFill>
        <p:spPr>
          <a:xfrm>
            <a:off x="3038400" y="1741320"/>
            <a:ext cx="1608120" cy="2009880"/>
          </a:xfrm>
          <a:prstGeom prst="rect">
            <a:avLst/>
          </a:prstGeom>
          <a:ln w="0">
            <a:noFill/>
          </a:ln>
        </p:spPr>
      </p:pic>
      <p:sp>
        <p:nvSpPr>
          <p:cNvPr id="426" name="pole tekstowe 12"/>
          <p:cNvSpPr/>
          <p:nvPr/>
        </p:nvSpPr>
        <p:spPr>
          <a:xfrm>
            <a:off x="4567680" y="1741320"/>
            <a:ext cx="22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w Cen MT"/>
              </a:rPr>
              <a:t>Makaron spaghetti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w Cen MT"/>
              </a:rPr>
              <a:t>Cena 3zł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27" name="Picture 7" descr="C:\Users\Ania\AppData\Local\Microsoft\Windows\Temporary Internet Files\Content.IE5\SI614T7F\MC900312536[1].wmf"/>
          <p:cNvPicPr/>
          <p:nvPr/>
        </p:nvPicPr>
        <p:blipFill>
          <a:blip r:embed="rId4"/>
          <a:stretch/>
        </p:blipFill>
        <p:spPr>
          <a:xfrm>
            <a:off x="2435400" y="4149720"/>
            <a:ext cx="1811160" cy="1870200"/>
          </a:xfrm>
          <a:prstGeom prst="rect">
            <a:avLst/>
          </a:prstGeom>
          <a:ln w="0">
            <a:noFill/>
          </a:ln>
        </p:spPr>
      </p:pic>
      <p:sp>
        <p:nvSpPr>
          <p:cNvPr id="428" name="pole tekstowe 14"/>
          <p:cNvSpPr/>
          <p:nvPr/>
        </p:nvSpPr>
        <p:spPr>
          <a:xfrm>
            <a:off x="4386240" y="4780080"/>
            <a:ext cx="127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w Cen MT"/>
              </a:rPr>
              <a:t>Koszulka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w Cen MT"/>
              </a:rPr>
              <a:t>Cena 79 zł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29" name="Picture 9" descr="C:\Users\Ania\AppData\Local\Microsoft\Windows\Temporary Internet Files\Content.IE5\SI614T7F\MC900113266[1].wmf"/>
          <p:cNvPicPr/>
          <p:nvPr/>
        </p:nvPicPr>
        <p:blipFill>
          <a:blip r:embed="rId5"/>
          <a:stretch/>
        </p:blipFill>
        <p:spPr>
          <a:xfrm>
            <a:off x="7786800" y="4789440"/>
            <a:ext cx="888840" cy="1629000"/>
          </a:xfrm>
          <a:prstGeom prst="rect">
            <a:avLst/>
          </a:prstGeom>
          <a:ln w="0">
            <a:noFill/>
          </a:ln>
        </p:spPr>
      </p:pic>
      <p:sp>
        <p:nvSpPr>
          <p:cNvPr id="430" name="pole tekstowe 17"/>
          <p:cNvSpPr/>
          <p:nvPr/>
        </p:nvSpPr>
        <p:spPr>
          <a:xfrm>
            <a:off x="6420960" y="4957920"/>
            <a:ext cx="14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w Cen MT"/>
              </a:rPr>
              <a:t>Sukienka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w Cen MT"/>
              </a:rPr>
              <a:t>Cena 128 zł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75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6" presetSubtype="3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32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2250"/>
                            </p:stCondLst>
                            <p:childTnLst>
                              <p:par>
                                <p:cTn id="4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3250"/>
                            </p:stCondLst>
                            <p:childTnLst>
                              <p:par>
                                <p:cTn id="440" nodeType="afterEffect" fill="hold" presetClass="entr" presetID="6" presetSubtype="3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42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4500"/>
                            </p:stCondLst>
                            <p:childTnLst>
                              <p:par>
                                <p:cTn id="4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5500"/>
                            </p:stCondLst>
                            <p:childTnLst>
                              <p:par>
                                <p:cTn id="450" nodeType="afterEffect" fill="hold" presetClass="entr" presetID="6" presetSubtype="3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52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6750"/>
                            </p:stCondLst>
                            <p:childTnLst>
                              <p:par>
                                <p:cTn id="4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7750"/>
                            </p:stCondLst>
                            <p:childTnLst>
                              <p:par>
                                <p:cTn id="460" nodeType="afterEffect" fill="hold" presetClass="entr" presetID="6" presetSubtype="3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62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9000"/>
                            </p:stCondLst>
                            <p:childTnLst>
                              <p:par>
                                <p:cTn id="4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0" nodeType="afterEffect" fill="hold" presetClass="entr" presetID="6" presetSubtype="3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72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11250"/>
                            </p:stCondLst>
                            <p:childTnLst>
                              <p:par>
                                <p:cTn id="474" nodeType="after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2500"/>
                            </p:stCondLst>
                            <p:childTnLst>
                              <p:par>
                                <p:cTn id="480" nodeType="afterEffect" fill="hold" presetClass="entr" presetID="2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2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8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9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0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1" dur="124" fill="hold">
                                          <p:stCondLst>
                                            <p:cond delay="1004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2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3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4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5" dur="124" fill="hold">
                                          <p:stCondLst>
                                            <p:cond delay="1376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11280" y="594972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775f55"/>
                </a:solidFill>
                <a:latin typeface="Tw Cen MT"/>
              </a:rPr>
              <a:t>prędkość poruszających się pojazdów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2" name="pole tekstowe 4"/>
          <p:cNvSpPr/>
          <p:nvPr/>
        </p:nvSpPr>
        <p:spPr>
          <a:xfrm>
            <a:off x="611280" y="62064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775f55"/>
                </a:solidFill>
                <a:latin typeface="Tw Cen MT"/>
              </a:rPr>
              <a:t>Za pomocą cyfr i liczb wyrażamy wiele informacji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33" name="Picture 3" descr="C:\Users\Ania\AppData\Local\Microsoft\Windows\Temporary Internet Files\Content.IE5\SI614T7F\MP900399388[1].jpg"/>
          <p:cNvPicPr/>
          <p:nvPr/>
        </p:nvPicPr>
        <p:blipFill>
          <a:blip r:embed="rId1"/>
          <a:stretch/>
        </p:blipFill>
        <p:spPr>
          <a:xfrm>
            <a:off x="395280" y="1706400"/>
            <a:ext cx="2725920" cy="181620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4" descr="C:\Users\Ania\AppData\Local\Microsoft\Windows\Temporary Internet Files\Content.IE5\CXABBVED\MP900427680[1].jpg"/>
          <p:cNvPicPr/>
          <p:nvPr/>
        </p:nvPicPr>
        <p:blipFill>
          <a:blip r:embed="rId2"/>
          <a:stretch/>
        </p:blipFill>
        <p:spPr>
          <a:xfrm>
            <a:off x="3300480" y="1695600"/>
            <a:ext cx="2604960" cy="182700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5" descr="C:\Users\Ania\AppData\Local\Microsoft\Windows\Temporary Internet Files\Content.IE5\AKSHKWQ7\MP900401312[1].jpg"/>
          <p:cNvPicPr/>
          <p:nvPr/>
        </p:nvPicPr>
        <p:blipFill>
          <a:blip r:embed="rId3"/>
          <a:stretch/>
        </p:blipFill>
        <p:spPr>
          <a:xfrm>
            <a:off x="6084720" y="1695600"/>
            <a:ext cx="2741760" cy="182700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6" descr="C:\Users\Ania\AppData\Local\Microsoft\Windows\Temporary Internet Files\Content.IE5\FZ4DAB55\MP900399267[1].jpg"/>
          <p:cNvPicPr/>
          <p:nvPr/>
        </p:nvPicPr>
        <p:blipFill>
          <a:blip r:embed="rId4"/>
          <a:stretch/>
        </p:blipFill>
        <p:spPr>
          <a:xfrm>
            <a:off x="3300480" y="4149720"/>
            <a:ext cx="2604960" cy="1706400"/>
          </a:xfrm>
          <a:prstGeom prst="rect">
            <a:avLst/>
          </a:prstGeom>
          <a:ln w="0">
            <a:noFill/>
          </a:ln>
        </p:spPr>
      </p:pic>
      <p:sp>
        <p:nvSpPr>
          <p:cNvPr id="437" name="pole tekstowe 10"/>
          <p:cNvSpPr/>
          <p:nvPr/>
        </p:nvSpPr>
        <p:spPr>
          <a:xfrm>
            <a:off x="3123000" y="5856120"/>
            <a:ext cx="362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w Cen MT"/>
              </a:rPr>
              <a:t>Prędkość 100 węzłów (185km/h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8" name="pole tekstowe 11"/>
          <p:cNvSpPr/>
          <p:nvPr/>
        </p:nvSpPr>
        <p:spPr>
          <a:xfrm>
            <a:off x="195120" y="3576600"/>
            <a:ext cx="229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w Cen MT"/>
              </a:rPr>
              <a:t>Prędkość  315 km/h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9" name="pole tekstowe 12"/>
          <p:cNvSpPr/>
          <p:nvPr/>
        </p:nvSpPr>
        <p:spPr>
          <a:xfrm>
            <a:off x="2993040" y="3605040"/>
            <a:ext cx="355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w Cen MT"/>
              </a:rPr>
              <a:t>Prędkość przelotowa  800 km/h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0" name="pole tekstowe 13"/>
          <p:cNvSpPr/>
          <p:nvPr/>
        </p:nvSpPr>
        <p:spPr>
          <a:xfrm>
            <a:off x="6658560" y="3595680"/>
            <a:ext cx="229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w Cen MT"/>
              </a:rPr>
              <a:t>Prędkość  200 km/h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0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afterEffect" fill="hold" presetClass="entr" presetID="2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2" dur="75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000"/>
                            </p:stCondLst>
                            <p:childTnLst>
                              <p:par>
                                <p:cTn id="50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06" dur="175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2750"/>
                            </p:stCondLst>
                            <p:childTnLst>
                              <p:par>
                                <p:cTn id="5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3750"/>
                            </p:stCondLst>
                            <p:childTnLst>
                              <p:par>
                                <p:cTn id="51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16" dur="175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5500"/>
                            </p:stCondLst>
                            <p:childTnLst>
                              <p:par>
                                <p:cTn id="5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6500"/>
                            </p:stCondLst>
                            <p:childTnLst>
                              <p:par>
                                <p:cTn id="52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26" dur="175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8250"/>
                            </p:stCondLst>
                            <p:childTnLst>
                              <p:par>
                                <p:cTn id="5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9250"/>
                            </p:stCondLst>
                            <p:childTnLst>
                              <p:par>
                                <p:cTn id="53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36" dur="175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1000"/>
                            </p:stCondLst>
                            <p:childTnLst>
                              <p:par>
                                <p:cTn id="5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2000"/>
                            </p:stCondLst>
                            <p:childTnLst>
                              <p:par>
                                <p:cTn id="544" nodeType="afterEffect" fill="hold" presetClass="entr" presetID="2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6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7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2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3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4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5" dur="124" fill="hold">
                                          <p:stCondLst>
                                            <p:cond delay="1004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6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7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8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9" dur="124" fill="hold">
                                          <p:stCondLst>
                                            <p:cond delay="1376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11280" y="56610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775f55"/>
                </a:solidFill>
                <a:latin typeface="Tw Cen MT"/>
              </a:rPr>
              <a:t>upływający czas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2" name="pole tekstowe 3"/>
          <p:cNvSpPr/>
          <p:nvPr/>
        </p:nvSpPr>
        <p:spPr>
          <a:xfrm>
            <a:off x="611280" y="62064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775f55"/>
                </a:solidFill>
                <a:latin typeface="Tw Cen MT"/>
              </a:rPr>
              <a:t>Za pomocą cyfr i liczb wyrażamy wiele informacji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43" name="Picture 2" descr="C:\Users\Ania\AppData\Local\Microsoft\Windows\Temporary Internet Files\Content.IE5\CXABBVED\MP900430829[1].jpg"/>
          <p:cNvPicPr/>
          <p:nvPr/>
        </p:nvPicPr>
        <p:blipFill>
          <a:blip r:embed="rId1"/>
          <a:stretch/>
        </p:blipFill>
        <p:spPr>
          <a:xfrm>
            <a:off x="611280" y="1589040"/>
            <a:ext cx="4537080" cy="30164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4" descr="C:\Users\Ania\AppData\Local\Microsoft\Windows\Temporary Internet Files\Content.IE5\AKSHKWQ7\MP900309636[1].jpg"/>
          <p:cNvPicPr/>
          <p:nvPr/>
        </p:nvPicPr>
        <p:blipFill>
          <a:blip r:embed="rId2"/>
          <a:stretch/>
        </p:blipFill>
        <p:spPr>
          <a:xfrm>
            <a:off x="5148360" y="3500280"/>
            <a:ext cx="3657600" cy="2610000"/>
          </a:xfrm>
          <a:prstGeom prst="rect">
            <a:avLst/>
          </a:prstGeom>
          <a:ln w="0">
            <a:noFill/>
          </a:ln>
        </p:spPr>
      </p:pic>
      <p:pic>
        <p:nvPicPr>
          <p:cNvPr id="445" name="pole tekstowe 9" descr=""/>
          <p:cNvPicPr/>
          <p:nvPr/>
        </p:nvPicPr>
        <p:blipFill>
          <a:blip r:embed="rId3"/>
          <a:stretch/>
        </p:blipFill>
        <p:spPr>
          <a:xfrm>
            <a:off x="560520" y="4694400"/>
            <a:ext cx="3981240" cy="811080"/>
          </a:xfrm>
          <a:prstGeom prst="rect">
            <a:avLst/>
          </a:prstGeom>
          <a:ln w="0">
            <a:noFill/>
          </a:ln>
        </p:spPr>
      </p:pic>
      <p:sp>
        <p:nvSpPr>
          <p:cNvPr id="446" name="pole tekstowe 10"/>
          <p:cNvSpPr/>
          <p:nvPr/>
        </p:nvSpPr>
        <p:spPr>
          <a:xfrm>
            <a:off x="6251040" y="2774880"/>
            <a:ext cx="254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w Cen MT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w Cen MT"/>
              </a:rPr>
              <a:t>15 kwietnia 1999 roku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75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750"/>
                            </p:stCondLst>
                            <p:childTnLst>
                              <p:par>
                                <p:cTn id="568" nodeType="afterEffect" fill="hold" presetClass="entr" presetID="6" presetSubtype="3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70" dur="1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2500"/>
                            </p:stCondLst>
                            <p:childTnLst>
                              <p:par>
                                <p:cTn id="572" nodeType="after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81" dur="1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1500"/>
                            </p:stCondLst>
                            <p:childTnLst>
                              <p:par>
                                <p:cTn id="5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5" dur="75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2250"/>
                            </p:stCondLst>
                            <p:childTnLst>
                              <p:par>
                                <p:cTn id="587" nodeType="afterEffect" fill="hold" presetClass="entr" presetID="2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9" dur="50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59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8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81">
                                          <p:stCondLst>
                                            <p:cond delay="581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290">
                                          <p:stCondLst>
                                            <p:cond delay="115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44">
                                          <p:stCondLst>
                                            <p:cond delay="144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5" dur="23" fill="hold">
                                          <p:stCondLst>
                                            <p:cond delay="56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6" dur="145" fill="hold">
                                          <p:stCondLst>
                                            <p:cond delay="592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7" dur="23" fill="hold">
                                          <p:stCondLst>
                                            <p:cond delay="1148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8" dur="145" fill="hold">
                                          <p:stCondLst>
                                            <p:cond delay="1171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9" dur="23" fill="hold">
                                          <p:stCondLst>
                                            <p:cond delay="1437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0" dur="145" fill="hold">
                                          <p:stCondLst>
                                            <p:cond delay="145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1" dur="23" fill="hold">
                                          <p:stCondLst>
                                            <p:cond delay="1582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2" dur="145" fill="hold">
                                          <p:stCondLst>
                                            <p:cond delay="1605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2360" y="228600"/>
            <a:ext cx="748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775f55"/>
                </a:solidFill>
                <a:latin typeface="Tw Cen MT"/>
              </a:rPr>
              <a:t>Zapis liczb w starożytnym Egipcie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w Cen MT"/>
              </a:rPr>
              <a:t>Egipcjanie korzystali z systemu dziesiętnego, a liczby zapisywali przy użyciu </a:t>
            </a:r>
            <a:r>
              <a:rPr b="1" lang="pl-PL" sz="1600" spc="-1" strike="noStrike">
                <a:solidFill>
                  <a:srgbClr val="000000"/>
                </a:solidFill>
                <a:latin typeface="Tw Cen MT"/>
              </a:rPr>
              <a:t>hieroglifów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w Cen MT"/>
              </a:rPr>
              <a:t>Cyfra 1</a:t>
            </a:r>
            <a:r>
              <a:rPr b="0" lang="pl-PL" sz="1200" spc="-1" strike="noStrike">
                <a:solidFill>
                  <a:srgbClr val="000000"/>
                </a:solidFill>
                <a:latin typeface="Tw Cen MT"/>
              </a:rPr>
              <a:t> – znak przedstawiający tyczkę do mierzenia (kreska). Używając pionowej kreski zapisywano liczby od 1 do 9.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w Cen MT"/>
              </a:rPr>
              <a:t>Cyfra 10</a:t>
            </a:r>
            <a:r>
              <a:rPr b="0" lang="pl-PL" sz="1200" spc="-1" strike="noStrike">
                <a:solidFill>
                  <a:srgbClr val="000000"/>
                </a:solidFill>
                <a:latin typeface="Tw Cen MT"/>
              </a:rPr>
              <a:t> – znak przedstawiający kości pięty. Wygląda jak odwrócona wielka litera U.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w Cen MT"/>
              </a:rPr>
              <a:t>Cyfra 100</a:t>
            </a:r>
            <a:r>
              <a:rPr b="0" lang="pl-PL" sz="1200" spc="-1" strike="noStrike">
                <a:solidFill>
                  <a:srgbClr val="000000"/>
                </a:solidFill>
                <a:latin typeface="Tw Cen MT"/>
              </a:rPr>
              <a:t> – znak przedstawiający zwiniętą linię bądź laskę kapłańską.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w Cen MT"/>
              </a:rPr>
              <a:t>Cyfra 1000</a:t>
            </a:r>
            <a:r>
              <a:rPr b="0" lang="pl-PL" sz="1200" spc="-1" strike="noStrike">
                <a:solidFill>
                  <a:srgbClr val="000000"/>
                </a:solidFill>
                <a:latin typeface="Tw Cen MT"/>
              </a:rPr>
              <a:t> – przedstawiała pęd lotosu symbolizujący Nil – rzekę życia.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w Cen MT"/>
              </a:rPr>
              <a:t>Cyfra 10000</a:t>
            </a:r>
            <a:r>
              <a:rPr b="0" lang="pl-PL" sz="1200" spc="-1" strike="noStrike">
                <a:solidFill>
                  <a:srgbClr val="000000"/>
                </a:solidFill>
                <a:latin typeface="Tw Cen MT"/>
              </a:rPr>
              <a:t> – oznaczona była palcem wskazującym.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w Cen MT"/>
              </a:rPr>
              <a:t>Cyfra 100000</a:t>
            </a:r>
            <a:r>
              <a:rPr b="0" lang="pl-PL" sz="1200" spc="-1" strike="noStrike">
                <a:solidFill>
                  <a:srgbClr val="000000"/>
                </a:solidFill>
                <a:latin typeface="Tw Cen MT"/>
              </a:rPr>
              <a:t> – przedstawiała żabę. Była to dla Egipcjan tak ogromna liczba, jak liczba żab w błotach Nilu po jego wylewach.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w Cen MT"/>
              </a:rPr>
              <a:t>Cyfra 1000000</a:t>
            </a:r>
            <a:r>
              <a:rPr b="0" lang="pl-PL" sz="1200" spc="-1" strike="noStrike">
                <a:solidFill>
                  <a:srgbClr val="000000"/>
                </a:solidFill>
                <a:latin typeface="Tw Cen MT"/>
              </a:rPr>
              <a:t> – liczba niewyobrażalna dla starożytnych. Znak przedstawia mężczyznę z podniesionymi do góry rękoma.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w Cen MT"/>
              </a:rPr>
              <a:t>Ciekawa strona – </a:t>
            </a:r>
            <a:r>
              <a:rPr b="0" lang="pl-PL" sz="12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pisanie hieroglifami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9" name="Obraz 5" descr=""/>
          <p:cNvPicPr/>
          <p:nvPr/>
        </p:nvPicPr>
        <p:blipFill>
          <a:blip r:embed="rId2"/>
          <a:stretch/>
        </p:blipFill>
        <p:spPr>
          <a:xfrm>
            <a:off x="1582560" y="3860640"/>
            <a:ext cx="5953320" cy="1543320"/>
          </a:xfrm>
          <a:prstGeom prst="rect">
            <a:avLst/>
          </a:prstGeom>
          <a:ln w="0">
            <a:noFill/>
          </a:ln>
        </p:spPr>
      </p:pic>
      <p:pic>
        <p:nvPicPr>
          <p:cNvPr id="370" name="Obraz 6" descr=""/>
          <p:cNvPicPr/>
          <p:nvPr/>
        </p:nvPicPr>
        <p:blipFill>
          <a:blip r:embed="rId3"/>
          <a:stretch/>
        </p:blipFill>
        <p:spPr>
          <a:xfrm>
            <a:off x="3911760" y="6021360"/>
            <a:ext cx="1295280" cy="581040"/>
          </a:xfrm>
          <a:prstGeom prst="rect">
            <a:avLst/>
          </a:prstGeom>
          <a:ln w="0">
            <a:noFill/>
          </a:ln>
        </p:spPr>
      </p:pic>
      <p:sp>
        <p:nvSpPr>
          <p:cNvPr id="371" name="pole tekstowe 7"/>
          <p:cNvSpPr/>
          <p:nvPr/>
        </p:nvSpPr>
        <p:spPr>
          <a:xfrm rot="20785200">
            <a:off x="5046480" y="5919480"/>
            <a:ext cx="16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968c8c"/>
                </a:solidFill>
                <a:latin typeface="Tw Cen MT"/>
              </a:rPr>
              <a:t>Jaka to liczba?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2" name="Obraz 8" descr=""/>
          <p:cNvPicPr/>
          <p:nvPr/>
        </p:nvPicPr>
        <p:blipFill>
          <a:blip r:embed="rId4"/>
          <a:stretch/>
        </p:blipFill>
        <p:spPr>
          <a:xfrm>
            <a:off x="7667640" y="-12600"/>
            <a:ext cx="1512720" cy="14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75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" dur="124" fill="hold">
                                          <p:stCondLst>
                                            <p:cond delay="1004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" dur="124" fill="hold">
                                          <p:stCondLst>
                                            <p:cond delay="1376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5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75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250"/>
                            </p:stCondLst>
                            <p:childTnLst>
                              <p:par>
                                <p:cTn id="5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0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75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75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750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750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750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750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750"/>
                                        <p:tgtEl>
                                          <p:spTgt spid="3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75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750"/>
                                        <p:tgtEl>
                                          <p:spTgt spid="36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4" dur="1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75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775f55"/>
                </a:solidFill>
                <a:latin typeface="Tw Cen MT"/>
              </a:rPr>
              <a:t>Zapis liczb w systemie babilońskim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System babiloński pochodzi z Mezopotamii, znany około 5000 lat temu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Babilończycy pisali pismem klinowym, a korzystali z systemu liczbowego o podstawie 60.</a:t>
            </a:r>
            <a:br>
              <a:rPr sz="2400"/>
            </a:br>
            <a:r>
              <a:rPr b="0" lang="pl-PL" sz="2400" spc="-1" strike="noStrike">
                <a:solidFill>
                  <a:srgbClr val="dd8047"/>
                </a:solidFill>
                <a:latin typeface="Tw Cen MT"/>
              </a:rPr>
              <a:t>Do dzisiaj dzielimy godziny na sześćdziesiąt minut, minuty na sześćdziesiąt sekund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5" name="Obraz 3" descr=""/>
          <p:cNvPicPr/>
          <p:nvPr/>
        </p:nvPicPr>
        <p:blipFill>
          <a:blip r:embed="rId1"/>
          <a:stretch/>
        </p:blipFill>
        <p:spPr>
          <a:xfrm>
            <a:off x="3780000" y="3789360"/>
            <a:ext cx="4476600" cy="2657520"/>
          </a:xfrm>
          <a:prstGeom prst="rect">
            <a:avLst/>
          </a:prstGeom>
          <a:ln w="0">
            <a:noFill/>
          </a:ln>
        </p:spPr>
      </p:pic>
      <p:pic>
        <p:nvPicPr>
          <p:cNvPr id="376" name="Obraz 4" descr=""/>
          <p:cNvPicPr/>
          <p:nvPr/>
        </p:nvPicPr>
        <p:blipFill>
          <a:blip r:embed="rId2"/>
          <a:stretch/>
        </p:blipFill>
        <p:spPr>
          <a:xfrm>
            <a:off x="1042920" y="4068720"/>
            <a:ext cx="253692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75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2" dur="75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" dur="75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" dur="375" autoRev="1" fill="hold"/>
                                        <p:tgtEl>
                                          <p:spTgt spid="3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775f55"/>
                </a:solidFill>
                <a:latin typeface="Tw Cen MT"/>
              </a:rPr>
              <a:t>Zapis liczb w systemie greckim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612360" y="1600200"/>
            <a:ext cx="4606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w Cen MT"/>
              </a:rPr>
              <a:t>Z używanych przez Greków systemów zapisywania liczb dwa zyskały szerszą popularność: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w Cen MT"/>
              </a:rPr>
              <a:t>System </a:t>
            </a:r>
            <a:r>
              <a:rPr b="1" lang="pl-PL" sz="1800" spc="-1" strike="noStrike">
                <a:solidFill>
                  <a:srgbClr val="000000"/>
                </a:solidFill>
                <a:latin typeface="Tw Cen MT"/>
              </a:rPr>
              <a:t>attycki</a:t>
            </a:r>
            <a:r>
              <a:rPr b="0" lang="pl-PL" sz="1800" spc="-1" strike="noStrike">
                <a:solidFill>
                  <a:srgbClr val="000000"/>
                </a:solidFill>
                <a:latin typeface="Tw Cen MT"/>
              </a:rPr>
              <a:t>, bardzo podobny do późniejszego rzymskiego. Był to system addytywny o bazie dziesięć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w Cen MT"/>
              </a:rPr>
              <a:t>System </a:t>
            </a:r>
            <a:r>
              <a:rPr b="1" lang="pl-PL" sz="1800" spc="-1" strike="noStrike">
                <a:solidFill>
                  <a:srgbClr val="000000"/>
                </a:solidFill>
                <a:latin typeface="Tw Cen MT"/>
              </a:rPr>
              <a:t>joński</a:t>
            </a:r>
            <a:r>
              <a:rPr b="0" lang="pl-PL" sz="1800" spc="-1" strike="noStrike">
                <a:solidFill>
                  <a:srgbClr val="000000"/>
                </a:solidFill>
                <a:latin typeface="Tw Cen MT"/>
              </a:rPr>
              <a:t>, który polegał na wykorzystaniu kolejnych liter alfabetu jako cyfr, na przyporządkowaniu każdej literze alfabetu greckiego jednej cyfry. 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9" name="Obraz 4" descr=""/>
          <p:cNvPicPr/>
          <p:nvPr/>
        </p:nvPicPr>
        <p:blipFill>
          <a:blip r:embed="rId1"/>
          <a:stretch/>
        </p:blipFill>
        <p:spPr>
          <a:xfrm>
            <a:off x="4859280" y="2098800"/>
            <a:ext cx="3095640" cy="1638000"/>
          </a:xfrm>
          <a:prstGeom prst="rect">
            <a:avLst/>
          </a:prstGeom>
          <a:ln w="0">
            <a:noFill/>
          </a:ln>
        </p:spPr>
      </p:pic>
      <p:pic>
        <p:nvPicPr>
          <p:cNvPr id="380" name="Obraz 5" descr=""/>
          <p:cNvPicPr/>
          <p:nvPr/>
        </p:nvPicPr>
        <p:blipFill>
          <a:blip r:embed="rId2"/>
          <a:stretch/>
        </p:blipFill>
        <p:spPr>
          <a:xfrm>
            <a:off x="4788000" y="3933720"/>
            <a:ext cx="4284720" cy="2853000"/>
          </a:xfrm>
          <a:prstGeom prst="rect">
            <a:avLst/>
          </a:prstGeom>
          <a:ln w="0">
            <a:noFill/>
          </a:ln>
        </p:spPr>
      </p:pic>
      <p:pic>
        <p:nvPicPr>
          <p:cNvPr id="381" name="Obraz 6" descr=""/>
          <p:cNvPicPr/>
          <p:nvPr/>
        </p:nvPicPr>
        <p:blipFill>
          <a:blip r:embed="rId3"/>
          <a:stretch/>
        </p:blipFill>
        <p:spPr>
          <a:xfrm>
            <a:off x="7451640" y="-27000"/>
            <a:ext cx="165276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75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75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75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750"/>
                            </p:stCondLst>
                            <p:childTnLst>
                              <p:par>
                                <p:cTn id="1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75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75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500"/>
                            </p:stCondLst>
                            <p:childTnLst>
                              <p:par>
                                <p:cTn id="17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3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75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75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84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775f55"/>
                </a:solidFill>
                <a:latin typeface="Tw Cen MT"/>
              </a:rPr>
              <a:t>Zapis liczb w systemie Majów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612720" y="1600200"/>
            <a:ext cx="8153280" cy="52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06000" indent="-306000">
              <a:lnSpc>
                <a:spcPct val="15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w Cen MT"/>
              </a:rPr>
              <a:t>Majowie to indiańskie plemię, które zamieszkiwało południowo-wschodnią część Meksyku, Gwatemalę i część Hondurasu.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15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w Cen MT"/>
              </a:rPr>
              <a:t>Majowie </a:t>
            </a:r>
            <a:r>
              <a:rPr b="1" lang="pl-PL" sz="1800" spc="-1" strike="noStrike">
                <a:solidFill>
                  <a:srgbClr val="000000"/>
                </a:solidFill>
                <a:latin typeface="Tw Cen MT"/>
              </a:rPr>
              <a:t>wprowadzili pojęcie zera</a:t>
            </a:r>
            <a:r>
              <a:rPr b="0" lang="pl-PL" sz="1800" spc="-1" strike="noStrike">
                <a:solidFill>
                  <a:srgbClr val="000000"/>
                </a:solidFill>
                <a:latin typeface="Tw Cen MT"/>
              </a:rPr>
              <a:t>. Opracowali również własny kalendarz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w Cen MT"/>
              </a:rPr>
              <a:t>Stworzyli system dwudziestkowy, który opierał się na trzech symbolach: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15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70c0"/>
                </a:solidFill>
                <a:latin typeface="Tw Cen MT"/>
              </a:rPr>
              <a:t>kropka</a:t>
            </a:r>
            <a:r>
              <a:rPr b="0" lang="pl-PL" sz="1800" spc="-1" strike="noStrike">
                <a:solidFill>
                  <a:srgbClr val="000000"/>
                </a:solidFill>
                <a:latin typeface="Tw Cen MT"/>
              </a:rPr>
              <a:t>, </a:t>
            </a:r>
            <a:r>
              <a:rPr b="1" lang="pl-PL" sz="1800" spc="-1" strike="noStrike">
                <a:solidFill>
                  <a:srgbClr val="7030a0"/>
                </a:solidFill>
                <a:latin typeface="Tw Cen MT"/>
              </a:rPr>
              <a:t>kreska</a:t>
            </a:r>
            <a:r>
              <a:rPr b="0" lang="pl-PL" sz="1800" spc="-1" strike="noStrike">
                <a:solidFill>
                  <a:srgbClr val="7030a0"/>
                </a:solidFill>
                <a:latin typeface="Tw Cen MT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w Cen MT"/>
              </a:rPr>
              <a:t>i </a:t>
            </a:r>
            <a:r>
              <a:rPr b="1" lang="pl-PL" sz="1800" spc="-1" strike="noStrike">
                <a:solidFill>
                  <a:srgbClr val="00b050"/>
                </a:solidFill>
                <a:latin typeface="Tw Cen MT"/>
              </a:rPr>
              <a:t>muszla</a:t>
            </a:r>
            <a:r>
              <a:rPr b="0" lang="pl-PL" sz="1800" spc="-1" strike="noStrike">
                <a:solidFill>
                  <a:srgbClr val="000000"/>
                </a:solidFill>
                <a:latin typeface="Tw Cen MT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13800" indent="-261720">
              <a:lnSpc>
                <a:spcPct val="15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Tw Cen MT"/>
              </a:rPr>
              <a:t>Znak </a:t>
            </a:r>
            <a:r>
              <a:rPr b="1" lang="pl-PL" sz="1500" spc="-1" strike="noStrike">
                <a:solidFill>
                  <a:srgbClr val="0070c0"/>
                </a:solidFill>
                <a:latin typeface="Tw Cen MT"/>
              </a:rPr>
              <a:t>kropki</a:t>
            </a:r>
            <a:r>
              <a:rPr b="0" lang="pl-PL" sz="1500" spc="-1" strike="noStrike">
                <a:solidFill>
                  <a:srgbClr val="000000"/>
                </a:solidFill>
                <a:latin typeface="Tw Cen MT"/>
              </a:rPr>
              <a:t> oznaczał </a:t>
            </a:r>
            <a:r>
              <a:rPr b="1" lang="pl-PL" sz="1500" spc="-1" strike="noStrike">
                <a:solidFill>
                  <a:srgbClr val="0070c0"/>
                </a:solidFill>
                <a:latin typeface="Tw Cen MT"/>
              </a:rPr>
              <a:t>jednostkę</a:t>
            </a:r>
            <a:r>
              <a:rPr b="0" lang="pl-PL" sz="1500" spc="-1" strike="noStrike">
                <a:solidFill>
                  <a:srgbClr val="000000"/>
                </a:solidFill>
                <a:latin typeface="Tw Cen MT"/>
              </a:rPr>
              <a:t>. 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lvl="1" marL="613800" indent="-261720">
              <a:lnSpc>
                <a:spcPct val="15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500" spc="-1" strike="noStrike">
                <a:solidFill>
                  <a:srgbClr val="7030a0"/>
                </a:solidFill>
                <a:latin typeface="Tw Cen MT"/>
              </a:rPr>
              <a:t>Pozioma kreska </a:t>
            </a:r>
            <a:r>
              <a:rPr b="0" lang="pl-PL" sz="1500" spc="-1" strike="noStrike">
                <a:solidFill>
                  <a:srgbClr val="000000"/>
                </a:solidFill>
                <a:latin typeface="Tw Cen MT"/>
              </a:rPr>
              <a:t>oznaczała </a:t>
            </a:r>
            <a:r>
              <a:rPr b="1" lang="pl-PL" sz="1500" spc="-1" strike="noStrike">
                <a:solidFill>
                  <a:srgbClr val="7030a0"/>
                </a:solidFill>
                <a:latin typeface="Tw Cen MT"/>
              </a:rPr>
              <a:t>piątkę</a:t>
            </a:r>
            <a:r>
              <a:rPr b="0" lang="pl-PL" sz="1500" spc="-1" strike="noStrike">
                <a:solidFill>
                  <a:srgbClr val="000000"/>
                </a:solidFill>
                <a:latin typeface="Tw Cen MT"/>
              </a:rPr>
              <a:t>. 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lvl="1" marL="613800" indent="-261720">
              <a:lnSpc>
                <a:spcPct val="15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500" spc="-1" strike="noStrike">
                <a:solidFill>
                  <a:srgbClr val="00b050"/>
                </a:solidFill>
                <a:latin typeface="Tw Cen MT"/>
              </a:rPr>
              <a:t>Muszla</a:t>
            </a:r>
            <a:r>
              <a:rPr b="0" lang="pl-PL" sz="1500" spc="-1" strike="noStrike">
                <a:solidFill>
                  <a:srgbClr val="00b050"/>
                </a:solidFill>
                <a:latin typeface="Tw Cen MT"/>
              </a:rPr>
              <a:t> </a:t>
            </a:r>
            <a:r>
              <a:rPr b="0" lang="pl-PL" sz="1500" spc="-1" strike="noStrike">
                <a:solidFill>
                  <a:srgbClr val="000000"/>
                </a:solidFill>
                <a:latin typeface="Tw Cen MT"/>
              </a:rPr>
              <a:t>oznaczała </a:t>
            </a:r>
            <a:r>
              <a:rPr b="1" lang="pl-PL" sz="1500" spc="-1" strike="noStrike">
                <a:solidFill>
                  <a:srgbClr val="00b050"/>
                </a:solidFill>
                <a:latin typeface="Tw Cen MT"/>
              </a:rPr>
              <a:t>zero</a:t>
            </a:r>
            <a:r>
              <a:rPr b="0" lang="pl-PL" sz="1500" spc="-1" strike="noStrike">
                <a:solidFill>
                  <a:srgbClr val="000000"/>
                </a:solidFill>
                <a:latin typeface="Tw Cen MT"/>
              </a:rPr>
              <a:t>. 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15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w Cen MT"/>
              </a:rPr>
              <a:t>Liczby zapisywano w postaci kombinacji kropek i kresek.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Tw Cen MT"/>
              </a:rPr>
              <a:t>Odpowiednio pogrupowane stanowiły podstawowy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Tw Cen MT"/>
              </a:rPr>
              <a:t>zestaw cyfr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4" name="Obraz 4" descr=""/>
          <p:cNvPicPr/>
          <p:nvPr/>
        </p:nvPicPr>
        <p:blipFill>
          <a:blip r:embed="rId1"/>
          <a:stretch/>
        </p:blipFill>
        <p:spPr>
          <a:xfrm>
            <a:off x="7596360" y="115920"/>
            <a:ext cx="1387440" cy="1204920"/>
          </a:xfrm>
          <a:prstGeom prst="rect">
            <a:avLst/>
          </a:prstGeom>
          <a:ln w="0">
            <a:noFill/>
          </a:ln>
        </p:spPr>
      </p:pic>
      <p:pic>
        <p:nvPicPr>
          <p:cNvPr id="385" name="Obraz 5" descr=""/>
          <p:cNvPicPr/>
          <p:nvPr/>
        </p:nvPicPr>
        <p:blipFill>
          <a:blip r:embed="rId2"/>
          <a:stretch/>
        </p:blipFill>
        <p:spPr>
          <a:xfrm>
            <a:off x="6588000" y="3789360"/>
            <a:ext cx="2232000" cy="2573280"/>
          </a:xfrm>
          <a:prstGeom prst="rect">
            <a:avLst/>
          </a:prstGeom>
          <a:ln w="0">
            <a:noFill/>
          </a:ln>
        </p:spPr>
      </p:pic>
      <p:sp>
        <p:nvSpPr>
          <p:cNvPr id="386" name="Strzałka w dół 3"/>
          <p:cNvSpPr/>
          <p:nvPr/>
        </p:nvSpPr>
        <p:spPr>
          <a:xfrm>
            <a:off x="7164360" y="3573360"/>
            <a:ext cx="287280" cy="432000"/>
          </a:xfrm>
          <a:prstGeom prst="downArrow">
            <a:avLst>
              <a:gd name="adj1" fmla="val 50000"/>
              <a:gd name="adj2" fmla="val 50125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7" name="Strzałka w dół 6"/>
          <p:cNvSpPr/>
          <p:nvPr/>
        </p:nvSpPr>
        <p:spPr>
          <a:xfrm>
            <a:off x="6732720" y="4365720"/>
            <a:ext cx="287280" cy="431640"/>
          </a:xfrm>
          <a:prstGeom prst="downArrow">
            <a:avLst>
              <a:gd name="adj1" fmla="val 50000"/>
              <a:gd name="adj2" fmla="val 50083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8" name="Strzałka w dół 7"/>
          <p:cNvSpPr/>
          <p:nvPr/>
        </p:nvSpPr>
        <p:spPr>
          <a:xfrm>
            <a:off x="6732720" y="3573360"/>
            <a:ext cx="287280" cy="432000"/>
          </a:xfrm>
          <a:prstGeom prst="downArrow">
            <a:avLst>
              <a:gd name="adj1" fmla="val 50000"/>
              <a:gd name="adj2" fmla="val 50125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75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750"/>
                            </p:stCondLst>
                            <p:childTnLst>
                              <p:par>
                                <p:cTn id="19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1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2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4" dur="124" fill="hold">
                                          <p:stCondLst>
                                            <p:cond delay="1004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6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8" dur="124" fill="hold">
                                          <p:stCondLst>
                                            <p:cond delay="1376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28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750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3000"/>
                            </p:stCondLst>
                            <p:childTnLst>
                              <p:par>
                                <p:cTn id="234" nodeType="afterEffect" fill="hold" presetClass="entr" presetID="2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750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4000"/>
                            </p:stCondLst>
                            <p:childTnLst>
                              <p:par>
                                <p:cTn id="238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1" dur="1" fill="hold">
                                    <p:stCondLst>
                                      <p:cond evt="end">
                                        <p:tn val="238"/>
                                      </p:cond>
                                    </p:stCondLst>
                                  </p:cTn>
                                  <p:tgtEl>
                                    <p:spTgt spid="3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250"/>
                            </p:stCondLst>
                            <p:childTnLst>
                              <p:par>
                                <p:cTn id="24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750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6500"/>
                            </p:stCondLst>
                            <p:childTnLst>
                              <p:par>
                                <p:cTn id="247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0" dur="1" fill="hold">
                                    <p:stCondLst>
                                      <p:cond evt="end">
                                        <p:tn val="247"/>
                                      </p:cond>
                                    </p:stCondLst>
                                  </p:cTn>
                                  <p:tgtEl>
                                    <p:spTgt spid="3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7750"/>
                            </p:stCondLst>
                            <p:childTnLst>
                              <p:par>
                                <p:cTn id="252" nodeType="afterEffect" fill="hold" presetClass="entr" presetID="2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750"/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8750"/>
                            </p:stCondLst>
                            <p:childTnLst>
                              <p:par>
                                <p:cTn id="2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9" dur="1" fill="hold">
                                    <p:stCondLst>
                                      <p:cond evt="end">
                                        <p:tn val="256"/>
                                      </p:cond>
                                    </p:stCondLst>
                                  </p:cTn>
                                  <p:tgtEl>
                                    <p:spTgt spid="3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750"/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775f55"/>
                </a:solidFill>
                <a:latin typeface="Tw Cen MT"/>
              </a:rPr>
              <a:t>Zapis liczb w systemie arabskim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539280" y="1599840"/>
            <a:ext cx="837252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Cyfry arabskie to znane nam: </a:t>
            </a:r>
            <a:r>
              <a:rPr b="1" lang="pl-PL" sz="2400" spc="-1" strike="noStrike">
                <a:solidFill>
                  <a:srgbClr val="000000"/>
                </a:solidFill>
                <a:latin typeface="Tw Cen MT"/>
              </a:rPr>
              <a:t>0, 1, 2, 3, 4, 5, 6, 7, 8, 9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Rok 2013 = 2 · 1000 + 0 · 100 + 1 · 10 + 2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System arabski wywodzi się od cyfr indyjskich, które do Europy przywieźli Arabowie stąd ich nazwa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Pierwszym zastosowaniem liczb arabskich było nie zapisywanie liczb piórem, tylko umieszczanie ich na żetonach służących do wykonywania rachunku na liczydłach, tzw. </a:t>
            </a:r>
            <a:r>
              <a:rPr b="1" lang="pl-PL" sz="2400" spc="-1" strike="noStrike">
                <a:solidFill>
                  <a:srgbClr val="000000"/>
                </a:solidFill>
                <a:latin typeface="Tw Cen MT"/>
              </a:rPr>
              <a:t>abakach</a:t>
            </a: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1" name="Picture 3" descr="C:\Users\Ania\AppData\Local\Microsoft\Windows\Temporary Internet Files\Content.IE5\AKSHKWQ7\MC900432271[1].wmf"/>
          <p:cNvPicPr/>
          <p:nvPr/>
        </p:nvPicPr>
        <p:blipFill>
          <a:blip r:embed="rId1"/>
          <a:stretch/>
        </p:blipFill>
        <p:spPr>
          <a:xfrm>
            <a:off x="7236000" y="4941720"/>
            <a:ext cx="182700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75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750"/>
                            </p:stCondLst>
                            <p:childTnLst>
                              <p:par>
                                <p:cTn id="27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750"/>
                            </p:stCondLst>
                            <p:childTnLst>
                              <p:par>
                                <p:cTn id="290" nodeType="afterEffect" fill="hold" presetClass="entr" presetID="2" presetSubtype="4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10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3000"/>
                            </p:stCondLst>
                            <p:childTnLst>
                              <p:par>
                                <p:cTn id="295" nodeType="afterEffect" fill="hold" presetClass="entr" presetID="2" presetSubtype="4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1000" fill="hold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0"/>
                            </p:stCondLst>
                            <p:childTnLst>
                              <p:par>
                                <p:cTn id="300" nodeType="afterEffect" fill="hold" presetClass="entr" presetID="2" presetSubtype="4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1000" fill="hold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1000" fill="hold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7000"/>
                            </p:stCondLst>
                            <p:childTnLst>
                              <p:par>
                                <p:cTn id="305" nodeType="afterEffect" fill="hold" presetClass="entr" presetID="2" presetSubtype="4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1000" fill="hold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1000" fill="hold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924000" y="2276640"/>
            <a:ext cx="482436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775f55"/>
                </a:solidFill>
                <a:latin typeface="Tw Cen MT"/>
              </a:rPr>
              <a:t>Maja</a:t>
            </a:r>
            <a:br>
              <a:rPr sz="4000"/>
            </a:br>
            <a:r>
              <a:rPr b="0" lang="pl-PL" sz="4000" spc="-1" strike="noStrike">
                <a:solidFill>
                  <a:srgbClr val="775f55"/>
                </a:solidFill>
                <a:latin typeface="Tw Cen MT"/>
              </a:rPr>
              <a:t>urodzona 15.08.2001 </a:t>
            </a:r>
            <a:br>
              <a:rPr sz="4000"/>
            </a:br>
            <a:r>
              <a:rPr b="0" lang="pl-PL" sz="4000" spc="-1" strike="noStrike">
                <a:solidFill>
                  <a:srgbClr val="775f55"/>
                </a:solidFill>
                <a:latin typeface="Tw Cen MT"/>
              </a:rPr>
              <a:t>godz. 14:50 </a:t>
            </a:r>
            <a:br>
              <a:rPr sz="4000"/>
            </a:br>
            <a:r>
              <a:rPr b="0" lang="pl-PL" sz="4000" spc="-1" strike="noStrike">
                <a:solidFill>
                  <a:srgbClr val="775f55"/>
                </a:solidFill>
                <a:latin typeface="Tw Cen MT"/>
              </a:rPr>
              <a:t>54 cm  3300g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93" name="Picture 2" descr="C:\Users\Ania\AppData\Local\Microsoft\Windows\Temporary Internet Files\Content.IE5\AKSHKWQ7\MP900448395[1].jpg"/>
          <p:cNvPicPr/>
          <p:nvPr/>
        </p:nvPicPr>
        <p:blipFill>
          <a:blip r:embed="rId1"/>
          <a:stretch/>
        </p:blipFill>
        <p:spPr>
          <a:xfrm>
            <a:off x="611280" y="1773360"/>
            <a:ext cx="2997000" cy="4495680"/>
          </a:xfrm>
          <a:prstGeom prst="rect">
            <a:avLst/>
          </a:prstGeom>
          <a:ln w="0">
            <a:noFill/>
          </a:ln>
        </p:spPr>
      </p:pic>
      <p:sp>
        <p:nvSpPr>
          <p:cNvPr id="394" name="pole tekstowe 3"/>
          <p:cNvSpPr/>
          <p:nvPr/>
        </p:nvSpPr>
        <p:spPr>
          <a:xfrm>
            <a:off x="611280" y="62064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775f55"/>
                </a:solidFill>
                <a:latin typeface="Tw Cen MT"/>
              </a:rPr>
              <a:t>Za pomocą cyfr i liczb wyrażamy wiele informacji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75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19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3000"/>
                            </p:stCondLst>
                            <p:childTnLst>
                              <p:par>
                                <p:cTn id="321" nodeType="afterEffect" fill="hold" presetClass="entr" presetID="2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040" y="5732280"/>
            <a:ext cx="8153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775f55"/>
                </a:solidFill>
                <a:latin typeface="Tw Cen MT"/>
              </a:rPr>
              <a:t>Wysokość gór, głębokość jezior i mórz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6" name="Prostokąt 8"/>
          <p:cNvSpPr/>
          <p:nvPr/>
        </p:nvSpPr>
        <p:spPr>
          <a:xfrm>
            <a:off x="108000" y="1773360"/>
            <a:ext cx="2820960" cy="3456000"/>
          </a:xfrm>
          <a:prstGeom prst="rect">
            <a:avLst/>
          </a:prstGeom>
          <a:solidFill>
            <a:srgbClr val="ffffff">
              <a:alpha val="40000"/>
            </a:srgbClr>
          </a:solidFill>
          <a:ln w="10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397" name="Prostokąt 9"/>
          <p:cNvGrpSpPr/>
          <p:nvPr/>
        </p:nvGrpSpPr>
        <p:grpSpPr>
          <a:xfrm>
            <a:off x="244440" y="1938240"/>
            <a:ext cx="2559240" cy="2262240"/>
            <a:chOff x="244440" y="1938240"/>
            <a:chExt cx="2559240" cy="2262240"/>
          </a:xfrm>
        </p:grpSpPr>
        <p:pic>
          <p:nvPicPr>
            <p:cNvPr id="398" name="Prostokąt 9" descr=""/>
            <p:cNvPicPr/>
            <p:nvPr/>
          </p:nvPicPr>
          <p:blipFill>
            <a:blip r:embed="rId1"/>
            <a:stretch/>
          </p:blipFill>
          <p:spPr>
            <a:xfrm>
              <a:off x="244440" y="1938240"/>
              <a:ext cx="2559240" cy="226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>
              <a:off x="250920" y="1943280"/>
              <a:ext cx="2539800" cy="22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400" name="Dowolny kształt 10"/>
          <p:cNvSpPr/>
          <p:nvPr/>
        </p:nvSpPr>
        <p:spPr>
          <a:xfrm>
            <a:off x="227160" y="4210200"/>
            <a:ext cx="2538360" cy="933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5640" rIns="125640" tIns="125640" bIns="125640" anchor="ctr">
            <a:noAutofit/>
          </a:bodyPr>
          <a:p>
            <a:pPr algn="ctr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1467000"/>
                <a:tab algn="l" pos="2933640"/>
                <a:tab algn="l" pos="4400640"/>
                <a:tab algn="l" pos="5867280"/>
                <a:tab algn="l" pos="7334280"/>
                <a:tab algn="l" pos="8801280"/>
                <a:tab algn="l" pos="1026792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Jezioro Śniardwy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23,4 m głębokości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401" name="Grupa 33"/>
          <p:cNvGrpSpPr/>
          <p:nvPr/>
        </p:nvGrpSpPr>
        <p:grpSpPr>
          <a:xfrm>
            <a:off x="3052800" y="1778040"/>
            <a:ext cx="3062160" cy="3451320"/>
            <a:chOff x="3052800" y="1778040"/>
            <a:chExt cx="3062160" cy="3451320"/>
          </a:xfrm>
        </p:grpSpPr>
        <p:sp>
          <p:nvSpPr>
            <p:cNvPr id="402" name="Prostokąt 34"/>
            <p:cNvSpPr/>
            <p:nvPr/>
          </p:nvSpPr>
          <p:spPr>
            <a:xfrm>
              <a:off x="3052800" y="1778040"/>
              <a:ext cx="3062160" cy="34513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10080">
              <a:solidFill>
                <a:srgbClr val="94b6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03" name="Dowolny kształt 36"/>
            <p:cNvSpPr/>
            <p:nvPr/>
          </p:nvSpPr>
          <p:spPr>
            <a:xfrm>
              <a:off x="3182040" y="4212720"/>
              <a:ext cx="2756160" cy="931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5640" rIns="125640" tIns="125640" bIns="12564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1467000"/>
                  <a:tab algn="l" pos="2933640"/>
                  <a:tab algn="l" pos="4400640"/>
                  <a:tab algn="l" pos="5867280"/>
                  <a:tab algn="l" pos="7334280"/>
                  <a:tab algn="l" pos="8801280"/>
                  <a:tab algn="l" pos="1026792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w Cen MT"/>
                </a:rPr>
                <a:t>Najwyższy szczyt w Tatrach - Gerlach </a:t>
              </a:r>
              <a:br>
                <a:rPr sz="2000"/>
              </a:br>
              <a:r>
                <a:rPr b="0" lang="pl-PL" sz="2000" spc="-1" strike="noStrike">
                  <a:solidFill>
                    <a:srgbClr val="000000"/>
                  </a:solidFill>
                  <a:latin typeface="Tw Cen MT"/>
                </a:rPr>
                <a:t>2655 m wysokości</a:t>
              </a:r>
              <a:endParaRPr b="0" lang="en-US" sz="20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pic>
        <p:nvPicPr>
          <p:cNvPr id="404" name="Obraz 11" descr=""/>
          <p:cNvPicPr/>
          <p:nvPr/>
        </p:nvPicPr>
        <p:blipFill>
          <a:blip r:embed="rId2"/>
          <a:stretch/>
        </p:blipFill>
        <p:spPr>
          <a:xfrm>
            <a:off x="3160800" y="1938240"/>
            <a:ext cx="2851200" cy="2138400"/>
          </a:xfrm>
          <a:prstGeom prst="rect">
            <a:avLst/>
          </a:prstGeom>
          <a:ln w="0">
            <a:noFill/>
          </a:ln>
        </p:spPr>
      </p:pic>
      <p:sp>
        <p:nvSpPr>
          <p:cNvPr id="405" name="Prostokąt 3"/>
          <p:cNvSpPr/>
          <p:nvPr/>
        </p:nvSpPr>
        <p:spPr>
          <a:xfrm>
            <a:off x="6227640" y="1773360"/>
            <a:ext cx="2806920" cy="3452760"/>
          </a:xfrm>
          <a:prstGeom prst="rect">
            <a:avLst/>
          </a:prstGeom>
          <a:solidFill>
            <a:srgbClr val="ffffff">
              <a:alpha val="40000"/>
            </a:srgbClr>
          </a:solidFill>
          <a:ln w="10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406" name="Prostokąt 4"/>
          <p:cNvGrpSpPr/>
          <p:nvPr/>
        </p:nvGrpSpPr>
        <p:grpSpPr>
          <a:xfrm>
            <a:off x="6364440" y="1908000"/>
            <a:ext cx="2541600" cy="2163960"/>
            <a:chOff x="6364440" y="1908000"/>
            <a:chExt cx="2541600" cy="2163960"/>
          </a:xfrm>
        </p:grpSpPr>
        <p:pic>
          <p:nvPicPr>
            <p:cNvPr id="407" name="Prostokąt 4" descr=""/>
            <p:cNvPicPr/>
            <p:nvPr/>
          </p:nvPicPr>
          <p:blipFill>
            <a:blip r:embed="rId3"/>
            <a:stretch/>
          </p:blipFill>
          <p:spPr>
            <a:xfrm>
              <a:off x="6364440" y="1908000"/>
              <a:ext cx="2541600" cy="216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6369120" y="1916280"/>
              <a:ext cx="2525760" cy="21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409" name="Dowolny kształt 5"/>
          <p:cNvSpPr/>
          <p:nvPr/>
        </p:nvSpPr>
        <p:spPr>
          <a:xfrm>
            <a:off x="6369120" y="4127400"/>
            <a:ext cx="2525760" cy="892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60840" bIns="60840" anchor="ctr">
            <a:noAutofit/>
          </a:bodyPr>
          <a:p>
            <a:pPr algn="ctr">
              <a:lnSpc>
                <a:spcPct val="90000"/>
              </a:lnSpc>
              <a:spcAft>
                <a:spcPts val="700"/>
              </a:spcAft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w Cen MT"/>
              </a:rPr>
              <a:t>Morze Bałtyckie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90000"/>
              </a:lnSpc>
              <a:spcAft>
                <a:spcPts val="700"/>
              </a:spcAft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w Cen MT"/>
              </a:rPr>
              <a:t>Średnia głębokość 52,3 m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90000"/>
              </a:lnSpc>
              <a:spcAft>
                <a:spcPts val="700"/>
              </a:spcAft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w Cen MT"/>
              </a:rPr>
              <a:t>Największa głębia 459 m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0" name="pole tekstowe 47"/>
          <p:cNvSpPr/>
          <p:nvPr/>
        </p:nvSpPr>
        <p:spPr>
          <a:xfrm>
            <a:off x="611280" y="62064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775f55"/>
                </a:solidFill>
                <a:latin typeface="Tw Cen MT"/>
              </a:rPr>
              <a:t>Za pomocą cyfr i liczb wyrażamy wiele informacji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75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750"/>
                            </p:stCondLst>
                            <p:childTnLst>
                              <p:par>
                                <p:cTn id="33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75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36" nodeType="afterEffect" fill="hold" presetClass="entr" presetID="6" presetSubtype="3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38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75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000"/>
                            </p:stCondLst>
                            <p:childTnLst>
                              <p:par>
                                <p:cTn id="348" nodeType="afterEffect" fill="hold" presetClass="entr" presetID="6" presetSubtype="3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50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75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75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750"/>
                            </p:stCondLst>
                            <p:childTnLst>
                              <p:par>
                                <p:cTn id="36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62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2750"/>
                            </p:stCondLst>
                            <p:childTnLst>
                              <p:par>
                                <p:cTn id="364" nodeType="after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75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75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0120" y="56610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775f55"/>
                </a:solidFill>
                <a:latin typeface="Tw Cen MT"/>
              </a:rPr>
              <a:t>wyniki sportow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2" name="pole tekstowe 3"/>
          <p:cNvSpPr/>
          <p:nvPr/>
        </p:nvSpPr>
        <p:spPr>
          <a:xfrm>
            <a:off x="611280" y="62064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775f55"/>
                </a:solidFill>
                <a:latin typeface="Tw Cen MT"/>
              </a:rPr>
              <a:t>Za pomocą cyfr i liczb wyrażamy wiele informacji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13" name="Picture 3" descr="C:\Users\Ania\AppData\Local\Microsoft\Windows\Temporary Internet Files\Content.IE5\FZ4DAB55\MP900407439[1].jpg"/>
          <p:cNvPicPr/>
          <p:nvPr/>
        </p:nvPicPr>
        <p:blipFill>
          <a:blip r:embed="rId1"/>
          <a:stretch/>
        </p:blipFill>
        <p:spPr>
          <a:xfrm>
            <a:off x="3240000" y="1628640"/>
            <a:ext cx="3060720" cy="2040120"/>
          </a:xfrm>
          <a:prstGeom prst="rect">
            <a:avLst/>
          </a:prstGeom>
          <a:ln w="0">
            <a:noFill/>
          </a:ln>
        </p:spPr>
      </p:pic>
      <p:pic>
        <p:nvPicPr>
          <p:cNvPr id="414" name="Symbol zastępczy zawartości 6" descr=""/>
          <p:cNvPicPr/>
          <p:nvPr/>
        </p:nvPicPr>
        <p:blipFill>
          <a:blip r:embed="rId2"/>
          <a:srcRect l="0" t="7429" r="0" b="487"/>
          <a:stretch/>
        </p:blipFill>
        <p:spPr>
          <a:xfrm>
            <a:off x="108000" y="1628640"/>
            <a:ext cx="2952720" cy="2040120"/>
          </a:xfrm>
          <a:prstGeom prst="rect">
            <a:avLst/>
          </a:prstGeom>
          <a:ln w="0">
            <a:noFill/>
          </a:ln>
        </p:spPr>
      </p:pic>
      <p:pic>
        <p:nvPicPr>
          <p:cNvPr id="415" name="Obraz 9" descr=""/>
          <p:cNvPicPr/>
          <p:nvPr/>
        </p:nvPicPr>
        <p:blipFill>
          <a:blip r:embed="rId3"/>
          <a:stretch/>
        </p:blipFill>
        <p:spPr>
          <a:xfrm>
            <a:off x="34920" y="3668760"/>
            <a:ext cx="3097080" cy="1165320"/>
          </a:xfrm>
          <a:prstGeom prst="rect">
            <a:avLst/>
          </a:prstGeom>
          <a:ln w="0">
            <a:noFill/>
          </a:ln>
        </p:spPr>
      </p:pic>
      <p:pic>
        <p:nvPicPr>
          <p:cNvPr id="416" name="Obraz 8" descr=""/>
          <p:cNvPicPr/>
          <p:nvPr/>
        </p:nvPicPr>
        <p:blipFill>
          <a:blip r:embed="rId4"/>
          <a:stretch/>
        </p:blipFill>
        <p:spPr>
          <a:xfrm>
            <a:off x="3235320" y="3668760"/>
            <a:ext cx="3597120" cy="1093680"/>
          </a:xfrm>
          <a:prstGeom prst="rect">
            <a:avLst/>
          </a:prstGeom>
          <a:ln w="0">
            <a:noFill/>
          </a:ln>
        </p:spPr>
      </p:pic>
      <p:pic>
        <p:nvPicPr>
          <p:cNvPr id="417" name="Obraz 10" descr=""/>
          <p:cNvPicPr/>
          <p:nvPr/>
        </p:nvPicPr>
        <p:blipFill>
          <a:blip r:embed="rId5"/>
          <a:stretch/>
        </p:blipFill>
        <p:spPr>
          <a:xfrm>
            <a:off x="5299200" y="5084640"/>
            <a:ext cx="3711600" cy="162576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Users\Ania\AppData\Local\Microsoft\Windows\Temporary Internet Files\Content.IE5\SI614T7F\MP900430733[1].jpg"/>
          <p:cNvPicPr/>
          <p:nvPr/>
        </p:nvPicPr>
        <p:blipFill>
          <a:blip r:embed="rId6"/>
          <a:srcRect l="6650" t="0" r="0" b="0"/>
          <a:stretch/>
        </p:blipFill>
        <p:spPr>
          <a:xfrm>
            <a:off x="6711840" y="2492280"/>
            <a:ext cx="228456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75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79" dur="1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500"/>
                            </p:stCondLst>
                            <p:childTnLst>
                              <p:par>
                                <p:cTn id="3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75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75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89" dur="1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500"/>
                            </p:stCondLst>
                            <p:childTnLst>
                              <p:par>
                                <p:cTn id="3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75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75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99" dur="1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500"/>
                            </p:stCondLst>
                            <p:childTnLst>
                              <p:par>
                                <p:cTn id="401" nodeType="after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75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75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2500"/>
                            </p:stCondLst>
                            <p:childTnLst>
                              <p:par>
                                <p:cTn id="40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50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59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8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81">
                                          <p:stCondLst>
                                            <p:cond delay="581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90">
                                          <p:stCondLst>
                                            <p:cond delay="115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44">
                                          <p:stCondLst>
                                            <p:cond delay="144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4" dur="23" fill="hold">
                                          <p:stCondLst>
                                            <p:cond delay="56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5" dur="145" fill="hold">
                                          <p:stCondLst>
                                            <p:cond delay="592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6" dur="23" fill="hold">
                                          <p:stCondLst>
                                            <p:cond delay="1148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7" dur="145" fill="hold">
                                          <p:stCondLst>
                                            <p:cond delay="1171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3" fill="hold">
                                          <p:stCondLst>
                                            <p:cond delay="1437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9" dur="145" fill="hold">
                                          <p:stCondLst>
                                            <p:cond delay="145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3" fill="hold">
                                          <p:stCondLst>
                                            <p:cond delay="1582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1" dur="145" fill="hold">
                                          <p:stCondLst>
                                            <p:cond delay="1605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8T11:56:23Z</dcterms:created>
  <dc:creator>Ania</dc:creator>
  <dc:description/>
  <dc:language>en-US</dc:language>
  <cp:lastModifiedBy>Ania</cp:lastModifiedBy>
  <dcterms:modified xsi:type="dcterms:W3CDTF">2013-09-03T20:20:06Z</dcterms:modified>
  <cp:revision>56</cp:revision>
  <dc:subject/>
  <dc:title>Liczby i cyfry</dc:title>
</cp:coreProperties>
</file>